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2.gif" ContentType="image/gif"/>
  <Override PartName="/ppt/media/image9.gif" ContentType="image/gif"/>
  <Override PartName="/ppt/media/image8.jpeg" ContentType="image/jpeg"/>
  <Override PartName="/ppt/media/image2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20.gif" ContentType="image/gif"/>
  <Override PartName="/ppt/media/image3.gif" ContentType="image/gif"/>
  <Override PartName="/ppt/media/image21.gif" ContentType="image/gif"/>
  <Override PartName="/ppt/media/image19.gif" ContentType="image/gif"/>
  <Override PartName="/ppt/media/image7.png" ContentType="image/png"/>
  <Override PartName="/ppt/media/image4.gif" ContentType="image/gif"/>
  <Override PartName="/ppt/media/image1.jpeg" ContentType="image/jpeg"/>
  <Override PartName="/ppt/media/image17.gif" ContentType="image/gif"/>
  <Override PartName="/ppt/media/image16.gif" ContentType="image/gif"/>
  <Override PartName="/ppt/media/image14.gif" ContentType="image/gif"/>
  <Override PartName="/ppt/media/image18.png" ContentType="image/png"/>
  <Override PartName="/ppt/media/image15.gif" ContentType="image/gif"/>
  <Override PartName="/ppt/media/image5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F3354-065F-4CCA-9064-9715D41674F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99DB0-035F-4667-BEE5-D49C48846FE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AD02C-35BA-4F57-BEED-9DC021972FA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0E9FF-FE71-4A68-A1DA-8D55390F6F5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5222A-6D10-446B-9680-0313D3088AD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F8E97-185E-4ED5-86EF-7A219BCA639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1DA8D-760F-4682-A183-1103D98DA54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044F3-C1BD-42B5-BEE7-6270F50DAB3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241F9-4EFC-4A47-95B4-24B34B98B20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BF26E-8435-44B2-B178-A2C9CA9C86A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2DA20-CB0D-4FA6-9793-132C06AFE7B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84501-216A-4375-818C-19009BF925B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A2782-5A0B-42B1-93A3-377043DD32E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B6360-5167-4F94-B3F9-C312B0056F5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FA11C-569A-4574-B777-0184B829845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4509D-CC60-45A1-B644-99B44928B36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E3AC4-B25A-4025-91A0-1BE4361B992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B0A87-C200-4EAF-89A6-94E10368880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69FB5-3754-4F3F-B833-DCEA706EDBB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29587-4B8F-4E0C-9895-2E744502B67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25371-C93A-4A19-9653-92FE9580BCB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D47A0-02DA-4D34-8A85-8943123CB55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EEFD-E36B-4106-9342-B57F75B21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94C7-F580-456F-A36C-34913BB24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A980-883D-45CE-8B17-8FEB390D8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A507-9C5F-44AF-8FC9-9F732D622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5F74-344D-4175-938F-1BBE0FD07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7D1A-2FA4-4DB7-89F6-EBBBE0C9D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9F68-5D5C-490A-80AB-AA72408C9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C6D6-E159-4F3E-8749-929F9FC4D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BB6C-53FA-4AF1-A35D-96AC6F5D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15A0-6255-493B-84B3-11E7A3A9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1324-0BAC-46E6-81EF-E3B69F3A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AC6F-B151-4917-AE7C-3A85ACBA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F1F95-C62F-48AC-B1D8-C7BE0A25348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179280" y="1484280"/>
            <a:ext cx="8713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8854920" y="1447920"/>
            <a:ext cx="73080" cy="73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hyperlink" Target="http://www.xtec.es/centres/a8019411/caixa/index_es.htm" TargetMode="Externa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Taller de Música en la Ciencia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563640" y="6093000"/>
            <a:ext cx="5360760" cy="5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nero dos mil och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2" name="Picture 4" descr="audio"/>
          <p:cNvPicPr/>
          <p:nvPr/>
        </p:nvPicPr>
        <p:blipFill>
          <a:blip r:embed="rId1"/>
          <a:stretch/>
        </p:blipFill>
        <p:spPr>
          <a:xfrm>
            <a:off x="1476360" y="1989000"/>
            <a:ext cx="386712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Características Físicas de Onda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7" name="Picture 4" descr="onda con formulas"/>
          <p:cNvPicPr/>
          <p:nvPr/>
        </p:nvPicPr>
        <p:blipFill>
          <a:blip r:embed="rId1"/>
          <a:stretch/>
        </p:blipFill>
        <p:spPr>
          <a:xfrm>
            <a:off x="250920" y="1700280"/>
            <a:ext cx="8642160" cy="22971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7"/>
          <p:cNvSpPr/>
          <p:nvPr/>
        </p:nvSpPr>
        <p:spPr>
          <a:xfrm>
            <a:off x="395280" y="5157720"/>
            <a:ext cx="8207280" cy="10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Relaciones en las Ond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T = 1 / </a:t>
            </a:r>
            <a:r>
              <a:rPr b="0" lang="es-CL" sz="2400" spc="-1" strike="noStrike">
                <a:solidFill>
                  <a:srgbClr val="ffffff"/>
                </a:solidFill>
                <a:latin typeface="Monotype Corsiva"/>
              </a:rPr>
              <a:t>f                  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v =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λ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f</a:t>
            </a:r>
            <a:r>
              <a:rPr b="0" lang="es-ES" sz="2400" spc="-1" strike="noStrike">
                <a:solidFill>
                  <a:srgbClr val="ffffff"/>
                </a:solidFill>
                <a:latin typeface="Monotype Corsiva"/>
              </a:rPr>
              <a:t>                            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g(t)=sin(2·</a:t>
            </a:r>
            <a:r>
              <a:rPr b="0" i="1" lang="el-GR" sz="3200" spc="-1" strike="noStrike">
                <a:solidFill>
                  <a:srgbClr val="ffffff"/>
                </a:solidFill>
                <a:latin typeface="Monotype Corsiva"/>
              </a:rPr>
              <a:t>π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·f·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Representación Circula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156000" y="1699920"/>
            <a:ext cx="274644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Las ondas se representan matemáticamente como funciones trigonométricas (Seno y Coseno) o como números Reales e Imaginario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1" name="Picture 4" descr="complex"/>
          <p:cNvPicPr/>
          <p:nvPr/>
        </p:nvPicPr>
        <p:blipFill>
          <a:blip r:embed="rId1"/>
          <a:stretch/>
        </p:blipFill>
        <p:spPr>
          <a:xfrm>
            <a:off x="250920" y="1773360"/>
            <a:ext cx="619272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Oscilaciones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jemplo de Oscilacione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arlante </a:t>
            </a: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http://micro.magnet.fsu.edu/electromag/java/speaker/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Micrófono </a:t>
            </a: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http://micro.magnet.fsu.edu/electromag/java/microphone/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de membrana (Tambor) 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de cuerda o barra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http://www.falstad.com/mathphysics.htm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Ondas Mecánic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Pulso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6" name="Picture 4" descr="pulse"/>
          <p:cNvPicPr/>
          <p:nvPr/>
        </p:nvPicPr>
        <p:blipFill>
          <a:blip r:embed="rId1"/>
          <a:stretch/>
        </p:blipFill>
        <p:spPr>
          <a:xfrm>
            <a:off x="3132000" y="2205000"/>
            <a:ext cx="2187720" cy="21877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971640" y="5803920"/>
            <a:ext cx="7777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oustics Animations © 2002 Dr. Dan Russell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Kettering University Applied Physic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www.kettering.edu/~drussell/demo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Ondas Mecánic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Pulso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0" name="Picture 17" descr="pulse"/>
          <p:cNvPicPr/>
          <p:nvPr/>
        </p:nvPicPr>
        <p:blipFill>
          <a:blip r:embed="rId1"/>
          <a:stretch/>
        </p:blipFill>
        <p:spPr>
          <a:xfrm>
            <a:off x="3132000" y="2205000"/>
            <a:ext cx="2187720" cy="21877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9"/>
          <p:cNvSpPr/>
          <p:nvPr/>
        </p:nvSpPr>
        <p:spPr>
          <a:xfrm>
            <a:off x="971640" y="5803920"/>
            <a:ext cx="7777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oustics Animations © 2002 Dr. Dan Russell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Kettering University Applied Physic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www.kettering.edu/~drussell/demo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Ondas Mecánic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Relfexión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4" name="Picture 6" descr="hard"/>
          <p:cNvPicPr/>
          <p:nvPr/>
        </p:nvPicPr>
        <p:blipFill>
          <a:blip r:embed="rId1"/>
          <a:stretch/>
        </p:blipFill>
        <p:spPr>
          <a:xfrm>
            <a:off x="3132000" y="2060640"/>
            <a:ext cx="3600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Ondas Mecánic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Reflexiones con cambio de densidad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7" name="Picture 6" descr="reflect2"/>
          <p:cNvPicPr/>
          <p:nvPr/>
        </p:nvPicPr>
        <p:blipFill>
          <a:blip r:embed="rId1"/>
          <a:stretch/>
        </p:blipFill>
        <p:spPr>
          <a:xfrm>
            <a:off x="395280" y="227664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reflect1"/>
          <p:cNvPicPr/>
          <p:nvPr/>
        </p:nvPicPr>
        <p:blipFill>
          <a:blip r:embed="rId2"/>
          <a:stretch/>
        </p:blipFill>
        <p:spPr>
          <a:xfrm>
            <a:off x="5364000" y="227664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8"/>
          <p:cNvSpPr/>
          <p:nvPr/>
        </p:nvSpPr>
        <p:spPr>
          <a:xfrm>
            <a:off x="395280" y="5950080"/>
            <a:ext cx="82915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Página WEB de on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Superposición de Ond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12840" y="1455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Al cruzarse dos o más ondas, éstas se “suman” (superponen). Esto produce distintos efectos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2" name="Picture 4" descr="superposición de ondas"/>
          <p:cNvPicPr/>
          <p:nvPr/>
        </p:nvPicPr>
        <p:blipFill>
          <a:blip r:embed="rId1"/>
          <a:stretch/>
        </p:blipFill>
        <p:spPr>
          <a:xfrm>
            <a:off x="684360" y="2349360"/>
            <a:ext cx="611964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Superposición de Ond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4" name="Picture 5" descr="superposicion2"/>
          <p:cNvPicPr/>
          <p:nvPr/>
        </p:nvPicPr>
        <p:blipFill>
          <a:blip r:embed="rId1"/>
          <a:stretch/>
        </p:blipFill>
        <p:spPr>
          <a:xfrm>
            <a:off x="1619280" y="2347920"/>
            <a:ext cx="4248000" cy="424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Dos ondas viajando en el mismo sentido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Superposición de Ond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7" name="Picture 6" descr="superposicion3"/>
          <p:cNvPicPr/>
          <p:nvPr/>
        </p:nvPicPr>
        <p:blipFill>
          <a:blip r:embed="rId1"/>
          <a:stretch/>
        </p:blipFill>
        <p:spPr>
          <a:xfrm>
            <a:off x="1042920" y="2274840"/>
            <a:ext cx="4465800" cy="44658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Dos ondas viajando en sentidos opuesto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Unidad II </a:t>
            </a: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La Física del Sonido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4" name="Picture 3" descr="audio"/>
          <p:cNvPicPr/>
          <p:nvPr/>
        </p:nvPicPr>
        <p:blipFill>
          <a:blip r:embed="rId1"/>
          <a:stretch/>
        </p:blipFill>
        <p:spPr>
          <a:xfrm>
            <a:off x="7402680" y="404640"/>
            <a:ext cx="934920" cy="9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Superposición de Ond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0" name="Picture 7" descr="superposicion4"/>
          <p:cNvPicPr/>
          <p:nvPr/>
        </p:nvPicPr>
        <p:blipFill>
          <a:blip r:embed="rId1"/>
          <a:stretch/>
        </p:blipFill>
        <p:spPr>
          <a:xfrm>
            <a:off x="611280" y="2205000"/>
            <a:ext cx="4392360" cy="43927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Dos ondas de frecuencias ligeramente distintas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Suma de Ond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3" name="Picture 3" descr="additive sintesis"/>
          <p:cNvPicPr/>
          <p:nvPr/>
        </p:nvPicPr>
        <p:blipFill>
          <a:blip r:embed="rId1"/>
          <a:stretch/>
        </p:blipFill>
        <p:spPr>
          <a:xfrm>
            <a:off x="611280" y="1844640"/>
            <a:ext cx="5184720" cy="40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Parciales y Serie de Fouri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5" name="Picture 5" descr="fft-2"/>
          <p:cNvPicPr/>
          <p:nvPr/>
        </p:nvPicPr>
        <p:blipFill>
          <a:blip r:embed="rId1"/>
          <a:stretch/>
        </p:blipFill>
        <p:spPr>
          <a:xfrm>
            <a:off x="684360" y="2349360"/>
            <a:ext cx="7619760" cy="22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Parciales y Serie de Fouri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7" name="Picture 4" descr="fft-3"/>
          <p:cNvPicPr/>
          <p:nvPr/>
        </p:nvPicPr>
        <p:blipFill>
          <a:blip r:embed="rId1"/>
          <a:stretch/>
        </p:blipFill>
        <p:spPr>
          <a:xfrm>
            <a:off x="684360" y="2492280"/>
            <a:ext cx="761976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Parciales y Serie de Fouri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9" name="Picture 5" descr="fft-1"/>
          <p:cNvPicPr/>
          <p:nvPr/>
        </p:nvPicPr>
        <p:blipFill>
          <a:blip r:embed="rId1"/>
          <a:stretch/>
        </p:blipFill>
        <p:spPr>
          <a:xfrm>
            <a:off x="755640" y="3645000"/>
            <a:ext cx="762012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Parcial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jemplo de Síntesis por superposición de armónico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http://www.falstad.com/fourier/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Otro sitio de síntesis por Modelamiento Físico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http://www.cs.ubc.ca/spider/kvdoel/sound_demo6.html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Las Ondas Sonor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Propagación de Energía sin transferencia de materia: ondas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7" name="Picture 13" descr="peoplewave"/>
          <p:cNvPicPr/>
          <p:nvPr/>
        </p:nvPicPr>
        <p:blipFill>
          <a:blip r:embed="rId1"/>
          <a:stretch/>
        </p:blipFill>
        <p:spPr>
          <a:xfrm>
            <a:off x="1187280" y="3645000"/>
            <a:ext cx="5904000" cy="13176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1"/>
          <p:cNvSpPr/>
          <p:nvPr/>
        </p:nvSpPr>
        <p:spPr>
          <a:xfrm>
            <a:off x="324000" y="2349360"/>
            <a:ext cx="7272360" cy="12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Página Web: La Caja de Músic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de Carlos García Peñalba </a:t>
            </a:r>
            <a:r>
              <a:rPr b="0" lang="es-CL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xtec.es/centres/a8019411/caixa/index_e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cc"/>
                </a:solidFill>
                <a:latin typeface="Arial"/>
              </a:rPr>
              <a:t>http://www.kettering.edu/~drussell/Demo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4" descr="stringpulse"/>
          <p:cNvPicPr/>
          <p:nvPr/>
        </p:nvPicPr>
        <p:blipFill>
          <a:blip r:embed="rId3"/>
          <a:stretch/>
        </p:blipFill>
        <p:spPr>
          <a:xfrm>
            <a:off x="1187280" y="5040360"/>
            <a:ext cx="590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Las Ondas Sonor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2788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Es importante notar que las partículas no se desplazan, sino que vibran u oscilan. Osea, en una flauta no “sale” aire por el extremo….el aire se está moviendo dentro de la flauta a distintas velocidades o “frecuencias”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2" name="Picture 4" descr="water"/>
          <p:cNvPicPr/>
          <p:nvPr/>
        </p:nvPicPr>
        <p:blipFill>
          <a:blip r:embed="rId1"/>
          <a:stretch/>
        </p:blipFill>
        <p:spPr>
          <a:xfrm>
            <a:off x="755640" y="3213000"/>
            <a:ext cx="7488360" cy="32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Ond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jemplo de Ondas: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SynWater </a:t>
            </a: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simulador de ondas producidas por gotas de agua en un estanque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Tsunami </a:t>
            </a: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simulación de un Tsunami que se propag desde Chile hasta Japón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Tipos de Ond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Longitudinales: movimiento en el sentido de la propagació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7" name="Picture 4" descr="Lwave"/>
          <p:cNvPicPr/>
          <p:nvPr/>
        </p:nvPicPr>
        <p:blipFill>
          <a:blip r:embed="rId1"/>
          <a:stretch/>
        </p:blipFill>
        <p:spPr>
          <a:xfrm>
            <a:off x="755640" y="4292640"/>
            <a:ext cx="7920000" cy="20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Tipos de Ond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708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Transversales: movimiento perpendicular a la propagació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0" name="Picture 6" descr="Twave"/>
          <p:cNvPicPr/>
          <p:nvPr/>
        </p:nvPicPr>
        <p:blipFill>
          <a:blip r:embed="rId1"/>
          <a:stretch/>
        </p:blipFill>
        <p:spPr>
          <a:xfrm>
            <a:off x="395280" y="3284640"/>
            <a:ext cx="835344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Características Físicas de Onda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20908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Amplitud     ( A ) es qué tan amplia es la oscilación. Corresponde al volúme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Período       ( T ) : cuántos segundos dura un ciclo de una onda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Longitud de Onda  ( </a:t>
            </a:r>
            <a:r>
              <a:rPr b="0" lang="el-GR" sz="2000" spc="-1" strike="noStrike">
                <a:solidFill>
                  <a:srgbClr val="ffffcc"/>
                </a:solidFill>
                <a:latin typeface="Arial"/>
                <a:ea typeface="Arial"/>
              </a:rPr>
              <a:t>λ</a:t>
            </a: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 ) : distancia (en metros) entre dos ciclos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3" name="Picture 4" descr="Onda"/>
          <p:cNvPicPr/>
          <p:nvPr/>
        </p:nvPicPr>
        <p:blipFill>
          <a:blip r:embed="rId1"/>
          <a:stretch/>
        </p:blipFill>
        <p:spPr>
          <a:xfrm>
            <a:off x="611280" y="4076640"/>
            <a:ext cx="7345440" cy="2475000"/>
          </a:xfrm>
          <a:prstGeom prst="rect">
            <a:avLst/>
          </a:prstGeom>
          <a:ln w="0">
            <a:noFill/>
          </a:ln>
        </p:spPr>
      </p:pic>
      <p:sp>
        <p:nvSpPr>
          <p:cNvPr id="74" name="Oval 6"/>
          <p:cNvSpPr/>
          <p:nvPr/>
        </p:nvSpPr>
        <p:spPr>
          <a:xfrm>
            <a:off x="2313000" y="4238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7"/>
          <p:cNvSpPr/>
          <p:nvPr/>
        </p:nvSpPr>
        <p:spPr>
          <a:xfrm>
            <a:off x="2519280" y="4292640"/>
            <a:ext cx="1974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2843280" y="4365720"/>
            <a:ext cx="143964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Longitud de O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n met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9"/>
          <p:cNvSpPr/>
          <p:nvPr/>
        </p:nvSpPr>
        <p:spPr>
          <a:xfrm flipV="1">
            <a:off x="6845400" y="4338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6443640" y="5229360"/>
            <a:ext cx="86508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mplit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n met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1"/>
          <p:cNvSpPr/>
          <p:nvPr/>
        </p:nvSpPr>
        <p:spPr>
          <a:xfrm>
            <a:off x="3443400" y="601488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2"/>
          <p:cNvSpPr/>
          <p:nvPr/>
        </p:nvSpPr>
        <p:spPr>
          <a:xfrm>
            <a:off x="5661000" y="601488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3"/>
          <p:cNvSpPr/>
          <p:nvPr/>
        </p:nvSpPr>
        <p:spPr>
          <a:xfrm>
            <a:off x="3672000" y="6093000"/>
            <a:ext cx="1974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3995640" y="6165720"/>
            <a:ext cx="1440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eríodo de O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n segun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Características Físicas de Onda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87138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Frecuencia  ( </a:t>
            </a:r>
            <a:r>
              <a:rPr b="0" lang="es-CL" sz="2400" spc="-1" strike="noStrike">
                <a:solidFill>
                  <a:srgbClr val="ffffcc"/>
                </a:solidFill>
                <a:latin typeface="Monotype Corsiva"/>
              </a:rPr>
              <a:t>f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  ) es cuántos ciclos ocurren en 1 segundo.   Corresponde al ton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v es la velocidad de propagación de la onda…en el caso del sonido, es la velocidad del sonido en el aire   </a:t>
            </a:r>
            <a:r>
              <a:rPr b="1" lang="es-CL" sz="2400" spc="-1" strike="noStrike">
                <a:solidFill>
                  <a:srgbClr val="ffffcc"/>
                </a:solidFill>
                <a:latin typeface="Arial"/>
              </a:rPr>
              <a:t>340.29 m/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5" name="Picture 15" descr="onda con formulas"/>
          <p:cNvPicPr/>
          <p:nvPr/>
        </p:nvPicPr>
        <p:blipFill>
          <a:blip r:embed="rId1"/>
          <a:stretch/>
        </p:blipFill>
        <p:spPr>
          <a:xfrm>
            <a:off x="250920" y="4149720"/>
            <a:ext cx="864216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6:27:35Z</dcterms:created>
  <dc:creator>Mecesup</dc:creator>
  <dc:description/>
  <dc:language>en-US</dc:language>
  <cp:lastModifiedBy>Randall Ledermann</cp:lastModifiedBy>
  <dcterms:modified xsi:type="dcterms:W3CDTF">2008-01-07T13:06:33Z</dcterms:modified>
  <cp:revision>34</cp:revision>
  <dc:subject/>
  <dc:title>Taller de Ciencias en la Música </dc:title>
</cp:coreProperties>
</file>